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E5C-990E-46D7-A378-E27FB8D4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182-7FC6-4FB7-9F44-E3EBC174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3CC-66CB-4D5F-A811-4A19407B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192-D736-4999-B587-513529BC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3685-7A22-484E-A2D3-8F22FE20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BBED-4F34-449F-BCA2-18E296E2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3995-AD18-4DE2-A043-53628C9E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8843-49E4-4A81-AFA9-202DB7A5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5247-64DB-45C8-A5DB-A3C7EB7A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7767-5983-44E0-B83B-BCCCDE18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7F72-9544-4901-92E2-7E4D01F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363C-062C-4755-B431-293651B4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348A-D557-4DD4-8178-A6C8C5A1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848-2A59-418C-8EB9-8F68344F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DDCA-A985-449C-BBCD-17495AD8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F82C-3FC3-45D7-A5B7-53BB0A30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DC77-5290-47FA-A0DF-8F9351F2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79CA-34D2-4A2C-9C81-E52D4E62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C097-ADF5-4C12-A48F-63828433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3035C-C722-4228-8F48-A1EFFACE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1993-42D7-403A-9FC7-1E546DF1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EAF9-D0EC-41F9-95AA-F2796898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50C-5648-4B74-8F92-52E6E605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E609-F0D9-4C12-88B1-96A02151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E804-B288-4082-A43E-36D7F72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87B4-8596-4373-A386-6512E491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36AEA-D4C0-4564-967E-FB686F72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BA9B-B3F2-4DB2-8379-32559278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8B97-C0B8-415A-AA36-3D1BB0A8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01FC-CE7B-4A7E-B0F4-B18DDAA2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1695-721A-4E0A-B866-E25F21A1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522F-1FFB-4A6A-8E78-35789B24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ED9B-7993-43B1-A9B9-593C5001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6E8-F1AE-4E51-AD38-FA389EC4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712A7-854D-4A75-A70C-1816ADCD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47EA-2F33-4636-ABEA-919B43E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EA8E-7082-42EC-A64B-5A922121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2447D-4471-4C0B-B9BE-A899EB28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F267-D01D-4C87-9605-2B35A93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2828-CCB9-42B3-9950-5250988A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EBD05-930C-4648-AA10-A422099B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07401-A188-4609-BEF4-7C3BD0DE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49E8A-4E44-4D02-9830-791825FB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F0677-5CE5-4B96-8BD1-DCAA6BA3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267-FC2C-4DEE-8484-AA85784D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4BAA-2C65-41B4-9E8C-DB183478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7AD6-0984-4E2B-B463-88FB2EB3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5E3F9-7D7D-4427-9629-49AA4BD2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52358-7A45-40C5-B3D1-E43398E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5555-68DF-459E-8945-B6E7CAD3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BD6D5-4214-495B-BD21-3D02C59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AE62D-5B4B-4E71-A3FA-E3EA4B86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F066-E9FE-4F35-BD43-0AED9DFF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F687D-B991-435C-AFD9-E1AB3B43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FDE95-4924-4A6B-B5BD-6B555831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B02-16D5-4BB3-8F64-E06207F5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CCFA-1703-47EE-85A4-4220B551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3F913-7496-4D2F-93F6-DF4D2550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110A8-4BA9-4A2D-9671-1F6B99F7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60A9E-4440-46BB-A945-C5D7DB55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47AB-77F9-4F8B-9BD5-3F78385E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7A8F-4384-44B3-BD17-1EEC041F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8814-CBB9-4A69-938F-66A1A131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A3A41-AD42-4AF5-AFF7-C78B4295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55348-1B37-4A00-82C1-C0BA3DA0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1C796-D2C7-4B10-AD3E-AD1F2F1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FB3-36F3-4A19-95D9-42F8A41F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763B-06EF-4380-9765-CE24C4C2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355C7-BC94-474C-A5BB-6F23647F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CBDD4-84CB-4D09-8971-171C8C45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3182E-E617-4DAA-81BA-E40293E2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0A37-AAE3-44EB-B61D-1C4F812C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2E338-9DD6-464B-9841-BD2F06DC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5265D-C8FD-4423-9C4B-E3534656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61586-E396-46C2-ABC6-5DBE983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03D26-A9A6-47F2-A798-DBC3A5C4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4A2E-58D9-4820-931E-A56ADE7D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92B-E0BC-4826-9A78-A2D1BCE8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BEF00-8D95-4D9B-96E8-9993EB88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F9CB-2DFA-49A2-8115-9714BCF8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2B29B-DEA3-489A-9BD2-46F07406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FB277-3DA8-4075-8C83-C17FC155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9E3DA-3E5F-4545-8AD8-1CCF226B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62848-92AE-4809-AD81-825360B1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1D5AB-69B4-4E06-9F1B-D66FA7A9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09E8C-3539-48DB-A14D-8C4E341C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2324F-BE79-487C-9ADF-109BB843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C75FD-3165-48B3-9A79-C63C189D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095-D940-4765-B500-A706E75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4DA7E-95DF-4EB1-936D-ED85DB09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32219-455B-4C68-9196-375E2874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8FDDD-6899-46F6-982B-C8E2CBA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52D4C-4943-4250-BBFA-33B4185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4596A-50D3-4C94-AFE4-82FE16EB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B9480-CE84-46A2-94FF-D8617741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2C343-CA4A-4569-B4EE-0CEE3F3E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471C-C8C9-453B-ABCD-965DED99FAFF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9AD0-C58D-4F94-91D9-3BE41BF8EA4E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2571-DDDC-471C-98BE-22240FEDDB2A}" type="datetime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8f0f4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6B59-DEC6-43B6-9D91-B450A8B10891}" type="slidenum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A9A7-9B71-4EA5-9F96-A90B11C47910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2CDE-0322-4F9F-80EC-D2027EB13FDB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08FC-71EB-4FD0-AD80-35C0850DC133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E8EA-F7F8-45B9-987D-E76D896EDA2B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9339-FD5C-40DB-B188-7D07970EA715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ED0C-ACED-4D65-A152-9228EDA374C9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2631-74BC-4859-91B0-5442946C99D1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F46A-CB32-4F2C-99D8-207A7632FB73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7E86-6EDB-459D-B656-11277CB4F20F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0391-2AEE-4DE0-9F29-DA4AFCD71B1A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5ED8-03E4-4E8D-ABAF-03A1862B8E0F}" type="datetime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9566-7902-4CBD-BE2F-7810EC263215}" type="slidenum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antiago.barrios@coahuila.gob.mx" TargetMode="External"/><Relationship Id="rId2" Type="http://schemas.openxmlformats.org/officeDocument/2006/relationships/hyperlink" Target="mailto:erikaguadalupe.cruz@coahuila.gob.mx" TargetMode="External"/><Relationship Id="rId3" Type="http://schemas.openxmlformats.org/officeDocument/2006/relationships/hyperlink" Target="mailto:margaritalba@hotmail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4464000"/>
          </a:xfrm>
          <a:prstGeom prst="rect">
            <a:avLst/>
          </a:prstGeom>
          <a:ln w="0">
            <a:noFill/>
          </a:ln>
        </p:spPr>
      </p:pic>
      <p:pic>
        <p:nvPicPr>
          <p:cNvPr id="371" name="1 Título" descr=""/>
          <p:cNvPicPr/>
          <p:nvPr/>
        </p:nvPicPr>
        <p:blipFill>
          <a:blip r:embed="rId2"/>
          <a:stretch/>
        </p:blipFill>
        <p:spPr>
          <a:xfrm>
            <a:off x="603360" y="1335240"/>
            <a:ext cx="7785000" cy="1742760"/>
          </a:xfrm>
          <a:prstGeom prst="rect">
            <a:avLst/>
          </a:prstGeom>
          <a:ln w="0">
            <a:noFill/>
          </a:ln>
        </p:spPr>
      </p:pic>
      <p:sp>
        <p:nvSpPr>
          <p:cNvPr id="372" name="4 Marcador de pie de página"/>
          <p:cNvSpPr/>
          <p:nvPr/>
        </p:nvSpPr>
        <p:spPr>
          <a:xfrm>
            <a:off x="3635280" y="5732640"/>
            <a:ext cx="50529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Saltillo, Coahuila . 04 de Diciembre 201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395280" y="333360"/>
            <a:ext cx="8226360" cy="5126040"/>
          </a:xfrm>
          <a:prstGeom prst="rect">
            <a:avLst/>
          </a:prstGeom>
          <a:ln w="0">
            <a:noFill/>
          </a:ln>
        </p:spPr>
      </p:pic>
      <p:pic>
        <p:nvPicPr>
          <p:cNvPr id="374" name="1 Título" descr=""/>
          <p:cNvPicPr/>
          <p:nvPr/>
        </p:nvPicPr>
        <p:blipFill>
          <a:blip r:embed="rId2"/>
          <a:stretch/>
        </p:blipFill>
        <p:spPr>
          <a:xfrm>
            <a:off x="384120" y="828720"/>
            <a:ext cx="87408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399280"/>
          </a:xfrm>
          <a:prstGeom prst="rect">
            <a:avLst/>
          </a:prstGeom>
          <a:ln w="0">
            <a:noFill/>
          </a:ln>
        </p:spPr>
      </p:pic>
      <p:sp>
        <p:nvSpPr>
          <p:cNvPr id="376" name="2 CuadroTexto"/>
          <p:cNvSpPr/>
          <p:nvPr/>
        </p:nvSpPr>
        <p:spPr>
          <a:xfrm>
            <a:off x="611280" y="2565360"/>
            <a:ext cx="777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convenios entre el sector educativo, de salud, organizaciones no gubernamentales y ambientales. (20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s gene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 Crear grupo de trabajo multidisciplinario.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rupo de trabajo co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3 CuadroTexto"/>
          <p:cNvSpPr/>
          <p:nvPr/>
        </p:nvSpPr>
        <p:spPr>
          <a:xfrm>
            <a:off x="468360" y="333360"/>
            <a:ext cx="799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Contar con un programa de educación ambiental para concientizar y sensibilizar a estudiantes sobre la contaminación del aire y sus impactos a la salud y 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504720"/>
            <a:ext cx="7848360" cy="5372280"/>
          </a:xfrm>
          <a:prstGeom prst="rect">
            <a:avLst/>
          </a:prstGeom>
          <a:ln w="0">
            <a:noFill/>
          </a:ln>
        </p:spPr>
      </p:pic>
      <p:sp>
        <p:nvSpPr>
          <p:cNvPr id="379" name="2 CuadroTexto"/>
          <p:cNvSpPr/>
          <p:nvPr/>
        </p:nvSpPr>
        <p:spPr>
          <a:xfrm>
            <a:off x="611280" y="836640"/>
            <a:ext cx="7777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 Diseñar el material didáctico en el tema de calidad del aire. 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terial didáctico, educativo y/o informativo en el tema de la calidad del aire diseñ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. Diseñar e implementar un programa de educación ambiental en el tema de la calidad del aire y sus impactos a la salud. 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educación ambiental implem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372280"/>
          </a:xfrm>
          <a:prstGeom prst="rect">
            <a:avLst/>
          </a:prstGeom>
          <a:ln w="0">
            <a:noFill/>
          </a:ln>
        </p:spPr>
      </p:pic>
      <p:sp>
        <p:nvSpPr>
          <p:cNvPr id="381" name="2 CuadroTexto"/>
          <p:cNvSpPr/>
          <p:nvPr/>
        </p:nvSpPr>
        <p:spPr>
          <a:xfrm>
            <a:off x="395280" y="1197000"/>
            <a:ext cx="820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ación de Grupo de Trabajo multidisciplinario de Educación del Programa para Mejorar la Calidad del Aire del Estado de Coahuila de Zarago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1 CuadroTexto"/>
          <p:cNvSpPr/>
          <p:nvPr/>
        </p:nvSpPr>
        <p:spPr>
          <a:xfrm>
            <a:off x="250920" y="1413000"/>
            <a:ext cx="7634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santiago.barrios@coahuila.gob.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erikaguadalupe.cruz@coahuila.gob.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margaritalba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5:04:52Z</dcterms:created>
  <dc:creator>Impacto</dc:creator>
  <dc:description/>
  <dc:language>en-US</dc:language>
  <cp:lastModifiedBy>Impacto</cp:lastModifiedBy>
  <dcterms:modified xsi:type="dcterms:W3CDTF">2019-12-04T18:41:37Z</dcterms:modified>
  <cp:revision>4</cp:revision>
  <dc:subject/>
  <dc:title>5. Comunicación y Educación Ambiental.</dc:title>
</cp:coreProperties>
</file>